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824-98CE-4391-8E05-A3512181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66A-274F-41B8-B860-4141D9D8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516-68EA-454B-9E1A-BA24133B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793-85DD-4D5B-AF13-E8157810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EFDD-30B8-45CF-9602-6B00E3FA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B48B-6152-4C8B-90A0-25EB2FA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2B01-9B00-46D7-89CA-CBFFD82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29B4-F60D-439C-91C8-2958CF2A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E3B5-4A0A-44DB-81AC-BEC618AC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8C8F-4AAD-48C5-A536-7F91A944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9C16-012F-4B25-AAC3-0009CE3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579-82C3-4B01-B3CD-8A9262E3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0A33-63E4-42D6-85B4-E9B734F9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BF6-C94C-4F0D-89B6-D1217C4C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444-61F2-48D7-9BDB-7676E883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2C5E-B484-445F-8956-3B3EF6A7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57E3-7506-4342-90EF-3E60941B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118-C6DD-4831-88F4-DA603206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C9B-DC76-4F07-8AA5-7FBD2F3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DD0-9474-4377-9440-07ED8FE1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383-F74D-4DEE-845E-26345FF7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43E-DD40-4843-A0FB-E1D6C4F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045-2799-4647-94B4-9656EC3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038-D4AD-4D3E-A219-25A2CD0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21A4-2D8A-4EA6-B4DC-EC7C198DD3E5}" type="slidenum"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B1A1-8A65-4D3E-90E1-8484232CECBB}" type="slidenum">
              <a:rPr b="0" lang="pl-P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cyklopedia.pwn.pl/73373_1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3366"/>
                </a:solidFill>
                <a:latin typeface="Times New Roman"/>
              </a:rPr>
              <a:t>Co nam ludziom XXI w. pozostawiły cywilizacje Starożytnego Wschodu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Prezentacja multimedialna opracowana przez Edwarda Tora – nauczyciela historii Gimnazjum w Obsz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Co widzisz obok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Kliknij, jeśli nie jesteś pewie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egipt%20K%20umarłych" descr=""/>
          <p:cNvPicPr/>
          <p:nvPr/>
        </p:nvPicPr>
        <p:blipFill>
          <a:blip r:embed="rId1"/>
          <a:stretch/>
        </p:blipFill>
        <p:spPr>
          <a:xfrm>
            <a:off x="5429160" y="2214720"/>
            <a:ext cx="2772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Księga Umarły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Sąd Ozyrysa, inskrypcje, hieroglify zapisane na papirusi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Osiągnięcia cywilizacji egipskiej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Znajomość ułamków, system dziesiętny, równania z jedną niewiadomą oraz umiejętność liczenia pola figu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Mapa nieba i kalendarz słoneczny- rok  egipski miał 365 dni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Medycyna – znajomość anatomii i chirurgii- trepanacja czaszki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Posągi , malowidł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Piramidy – cywilizacja kamieni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Lustra, meble, posągi – grobowiec Tutanchamona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Palestyna ziemia biblijnego Izraela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Galilea, Samaria i Judea trzy części Palestyny oraz życiodajna rzeka Jord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Patriarchowie: Abraham Izaak i Jakub –Izrae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Czas wyjścia- Mojżesz – Dekalog – Arka Przymierza /XIII w p.n.e./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Czas  królów- /XI- X w. p.n.e./ Saul, Dawid, Salomon- Świątynia Jerozolimsk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Jestem, który Jestem”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Monoteizm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Biblia – Stary Testa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-Pięć ksiąg Tory /prawo/- opis stworzenia świata, początek dziejów ludzkich, dzieje Żydów, Dekalog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Talmud- zbiór komentarz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Prorocy – Ci, którzy objawiali Wolę  Bożą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Najwięksi prorocy – Izajasz, Jeremiasz, Daniel, Ezechiel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* Judaizm, synagoga, szabat, rab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Co widzisz poniżej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Skrzynia, w której Izraelici przechowywali Prawo Boże /Nazwij ją – jeśli nie jesteś pewien kliknij dwukrotnie/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Arka" descr=""/>
          <p:cNvPicPr/>
          <p:nvPr/>
        </p:nvPicPr>
        <p:blipFill>
          <a:blip r:embed="rId1"/>
          <a:stretch/>
        </p:blipFill>
        <p:spPr>
          <a:xfrm>
            <a:off x="809640" y="2548080"/>
            <a:ext cx="39020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Ściana Płaczu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333333"/>
                </a:solidFill>
                <a:latin typeface="Arial CE"/>
              </a:rPr>
              <a:t>Pozostałość zach.. odcinka zewn. murów [‘mur zachodni’] otaczających </a:t>
            </a:r>
            <a:r>
              <a:rPr b="0" lang="pl-PL" sz="2400" spc="-1" strike="noStrike" u="sng">
                <a:solidFill>
                  <a:srgbClr val="003366"/>
                </a:solidFill>
                <a:uFillTx/>
                <a:latin typeface="Arial CE"/>
                <a:hlinkClick r:id="rId1"/>
              </a:rPr>
              <a:t>Świątynię Jerozolimską</a:t>
            </a:r>
            <a:r>
              <a:rPr b="0" lang="pl-PL" sz="2400" spc="-1" strike="noStrike">
                <a:solidFill>
                  <a:srgbClr val="333333"/>
                </a:solidFill>
                <a:latin typeface="Arial CE"/>
              </a:rPr>
              <a:t> — jedyny zachowany fragment drugiej Świątyni,/wybudowanej przez Heroda Wielkiego/ zburzonej w 70 r. n.e. przez Rzymian. Największa świętość . Żydów, cel pielgrzyme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Sciana-placzu" descr=""/>
          <p:cNvPicPr/>
          <p:nvPr/>
        </p:nvPicPr>
        <p:blipFill>
          <a:blip r:embed="rId2"/>
          <a:stretch/>
        </p:blipFill>
        <p:spPr>
          <a:xfrm>
            <a:off x="4800600" y="2762280"/>
            <a:ext cx="39038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Arka Przymierz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Symbol ciągłości i przekazu międzypokoleniowego. Łącznik miedzy Chrześcijanami i Żydam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Co nam ludziom XXI w. pozostawiły cywilizacje Starożytnego Wschodu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Odpowiedz wpisz obo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Poprawne odpowiedzi to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Pismo: klinowe i hieroglify, prawo, państwo, religia- politeizm i monoteizm, Biblia monarchia despotyczna, kodek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System dziesiętny,kalendarz,liczenie pól figur, ułamki, astronomia, medycyn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Monumentalne budowle: zikkuraty, piramidy ,sfinks, ściana płaczu.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3366"/>
                </a:solidFill>
                <a:latin typeface="Times New Roman"/>
              </a:rPr>
              <a:t>cywilizacja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KULTURA STAROŻYTNEGO WSCHOD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Cywilizacje starożytnego wschodu t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1. Mezopotamia – ok.3100 r. p.n.e. – pierwsze miasto - państwo Sumerów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2. Egipt- ok.. 3050 p.n.e. –zjednoczenie Egiptu Górnego i Dolneg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3. Izrael-XV w. p.n.e. – Abraham udaje się do Palestyn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Mezopotamia – cywilizacja nad Eufratem i Tygrysem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1. Sumerowie –ok. 3100. p.n.e.- fundament cywilizacji 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Ur, Uruk, Lagasz – miasta z królami - kapłanami,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pismo klinow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2. Babilonia 1792- 1750 Hammurabi – „ oko za oko, ząb za ząb” - kodeks pra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3. Asyryjczycy IX – VII w. p.n.e. – podbój „Żyznego Półksiężyca”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Osiągnięcia cywilizacji Mezopotamii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Pismo klinowe na glinianych tabliczkach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Pierwszy spisany zbór praw – KODEK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Wynalazek koła – pierwszy w świecie wóz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Podział godziny na 60 minut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Zikkuraty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Egipt darem Nilu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Życiodajna rzeka – nawadnia ziemię wąskim pasem a dookoła...pustynia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System irygacyjny- kanały nawadniające : więcej uprawnego pola i ... konieczność nadzoru przez urzędników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Starożytna „autostrada” droga zaopatrzenia Egipt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PAŃSTWO FARAON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Monarchia despotyczna –Faraon władcą absolutnym ... Synem R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Kapłani opiekujący się w jego imieniu poszczególnymi świątyniam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Urzędnicy i skrybowi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Chłop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Kult zmarłych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Politeizm /najważniejsi bogowie to: Re, Amon, Izyda,Horus, Ozyrys/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Mumie i „Księga Umarłych”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Grobowce i inskrypcj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Times New Roman"/>
              </a:rPr>
              <a:t>Co widzisz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3366"/>
                </a:solidFill>
                <a:latin typeface="Times New Roman"/>
              </a:rPr>
              <a:t>Jeśli masz wątpliwości,kliknij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Piramida" descr=""/>
          <p:cNvPicPr/>
          <p:nvPr/>
        </p:nvPicPr>
        <p:blipFill>
          <a:blip r:embed="rId1"/>
          <a:stretch/>
        </p:blipFill>
        <p:spPr>
          <a:xfrm>
            <a:off x="809640" y="2695680"/>
            <a:ext cx="3902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3366"/>
                </a:solidFill>
                <a:latin typeface="Times New Roman"/>
              </a:rPr>
              <a:t>Piramida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3366"/>
                </a:solidFill>
                <a:latin typeface="Times New Roman"/>
              </a:rPr>
              <a:t>Piramida Cheopsa i Sfinks – pocztówka Egiptu Faraonów,ale również i Egiptu dzisiaj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6:24:40Z</dcterms:created>
  <dc:creator>xxx</dc:creator>
  <dc:description/>
  <dc:language>en-US</dc:language>
  <cp:lastModifiedBy>xxx</cp:lastModifiedBy>
  <dcterms:modified xsi:type="dcterms:W3CDTF">2005-03-20T17:13:39Z</dcterms:modified>
  <cp:revision>42</cp:revision>
  <dc:subject/>
  <dc:title>KULTURA STAROŻYTNEGO WSCHODU</dc:title>
</cp:coreProperties>
</file>